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747034"/>
        <c:axId val="80419559"/>
      </c:barChart>
      <c:catAx>
        <c:axId val="487470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419559"/>
        <c:crosses val="autoZero"/>
        <c:auto val="1"/>
        <c:lblAlgn val="ctr"/>
        <c:lblOffset val="100"/>
        <c:noMultiLvlLbl val="0"/>
      </c:catAx>
      <c:valAx>
        <c:axId val="804195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7470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5D01-3047-40D1-B930-FA2C47879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ED4B-F43E-42E2-B206-33C79D24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7FB9-98B4-49CB-80BA-7D6EEC3FB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1E52-6516-41F7-A3B7-D535E5C4F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F9D5-3C93-49F5-9AA3-135F972D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4822-9453-4558-8880-558271B5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58DA-8AD3-4E3B-A587-29B40AEF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94E2-4536-49C7-A13F-BA337BC4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7B3B-72BD-41F0-AAE4-B16EDF1F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3641-EE6F-4C14-A4EC-9592261B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4A60-424A-4DD8-93A2-B2486C01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1252-CDAE-4420-8FD5-C97DF936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08FFB4-D70D-43A9-B218-9CACBC43F4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